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F495-0C1F-46D2-A8E5-00C19C6B1D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F299-D2E1-4F6A-819D-960593913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8CB1-0F28-483F-BEDF-434737894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619-B58F-4D00-983F-620E98C22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BC45-9A92-4385-B15D-904013C32E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6DE6-D4D1-46DF-95FE-795C0EF43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C312-A4A2-48F5-8358-935AFAE26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2F9D-DEFA-476A-9F25-B1E323B7C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536B-685F-42F5-9F14-51289F5C6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BFA6-26BD-497C-95E5-6F39F2386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D55F-5A09-48BC-9FFA-D9A11917A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D862-3665-45CF-8B43-D4E97E1AE8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DDEE-3D27-49BD-AF92-1A4077EB23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 the sc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rector used backlighting to show that Charlie and Grandpa Joe are the heroes of the story and they deserve the audience’s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backlighting towards the beginning of the film clarifies the characters’ roles in the plot, and allows the audience to be confident about cheering for thes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cklighting also foreshadowed the resolution of the plot – the heroes won the contes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C43-1302-4460-987B-7CCC3EDE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034-C81C-4E6E-9855-D54B3F7C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7269-F112-4B63-B71F-DFE031B0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DA45-DB7D-45A1-8579-93588223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B20-A1A8-4983-84DD-2A858D93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EFA-C55D-4B3A-B023-76FB67DE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7C9-4E34-4499-A682-7208989F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BFB-E3C1-416E-99CD-1BE1469C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B7A-562A-4855-BFF6-79E2EEAB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566-BB6C-4322-BCF2-F3A5A30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E9F0-2F97-41B0-AFD5-2B59D68D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3CA-6589-4508-8AD0-161832F9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9B7D-7031-472A-862D-6A483C36E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 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 A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w A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ye-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An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ing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ing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ghting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sh L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ose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entury Gothic"/>
              </a:rPr>
              <a:t>CONVEN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Sce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Ligh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</a:rPr>
              <a:t>Mean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e8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8e2"/>
                </a:solidFill>
                <a:latin typeface="Calibri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371600" y="914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t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reme Close-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6:50:00Z</dcterms:created>
  <dc:creator>BGRS</dc:creator>
  <dc:description/>
  <dc:language>en-US</dc:language>
  <cp:lastModifiedBy>BGRS</cp:lastModifiedBy>
  <dcterms:modified xsi:type="dcterms:W3CDTF">2010-06-08T17:13:30Z</dcterms:modified>
  <cp:revision>3</cp:revision>
  <dc:subject/>
  <dc:title>Title</dc:title>
</cp:coreProperties>
</file>